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214-0028-4294-8051-17F017A1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C52-427F-4E81-AFBD-B9A489E4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572-263B-4BB4-B555-F8B20B57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657-BB13-4B17-BE8C-A38B8F31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C99-11F5-4F39-931C-2E9B277A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DEA-D9CD-43B6-950C-A1B0D547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760-2F79-4B21-AC55-8C004B7F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21E-522D-4B53-82B7-AE4E6582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EC9-8024-4D01-A5D4-5658948D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00F-80AE-4D15-8E87-20E4555E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86B-B387-463B-8BCE-F080E5D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C4F-5F59-43FD-83F0-A151B4B9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6003-4085-435C-8230-A708635322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2360" y="1179360"/>
            <a:ext cx="86392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2200" y="1844640"/>
            <a:ext cx="857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64960" y="1557360"/>
            <a:ext cx="8666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إسراء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ذكرت حادثة الإسراء بالنبي صلى الله عليه وسلم من المسجد الحرام إلى المسجد الأقص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99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سراء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قص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14200" y="2421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ر ب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5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الرسول صلى الله عليه وسلم في قصة الإس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شيء من الواجبات والمنهيات في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د على المشرك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قدرة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cxnSp>
        <p:nvCxnSpPr>
          <p:cNvPr id="67" name="رابط كسهم مستقيم 27"/>
          <p:cNvCxnSpPr/>
          <p:nvPr/>
        </p:nvCxnSpPr>
        <p:spPr>
          <a:xfrm flipH="1">
            <a:off x="8456040" y="4198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50920" y="3965400"/>
            <a:ext cx="820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تعنت الكفار مع النبي صلى الله عليه وسلم وتوجيه الرسول صلى الله عليه وسلم إلى كيفية الرد علي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0920" y="1467000"/>
            <a:ext cx="86421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42:56Z</dcterms:modified>
  <cp:revision>1827</cp:revision>
  <dc:subject/>
  <dc:title>عرض تقديمي في PowerPoint</dc:title>
</cp:coreProperties>
</file>